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930320"/>
          <a:ext cx="91440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30320"/>
                    <a:ext cx="91440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5748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d Whit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057400"/>
            <a:ext cx="70866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ing VisIt to BG/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file:///C:/LBLDesk/VACET_Logo-Back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3rd party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Vi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ning VisIt on BG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t VisIt to IBM’s BlueGene/P platform so VisIt can run on LLNL’s Dawn and eventually Sequo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wn is a 500 Teraflop, 36,864 node, 147,456 cpu, IBM BG/P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850MHz PowerPC cores/node, 4Gb Memory/n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ute nodes run CNK 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oss-compile code for C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weaknesses in VisIt that prevent it from scaling to tens/hundreds of thousands of process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2612880"/>
            <a:ext cx="38098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Building 3rd party librarie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all libraries on login nodes for regular Linux PowerPC version of Vis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n into runtime problems using xlC compiler so reverted to g++ for the time be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compiled all libraries for C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upport for this platform in VisIt’s 3rd party libraries so special builds were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a built unmangled and no X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K tricky to bu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OpenGL so VTK built with Mesa as its OpenG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X11 so created custom render win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CMake toolchain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Building VisI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X11 so graphical components can’t be built for CNK (don’t build gu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new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-enable-engine-on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ild mode to VisIt’s build system that only builds the compute engine and its plu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 always used to require mangled m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support had to become conditional on VTK having mangled mesa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Running VisIt on Dawn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wn uses mpirun to start VisIt on compute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or differences required environment variables to be exported via mpirun command, which could be handled via host profile in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 ran at 1k,2k,4k,8k,16k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 ran with 1 and 4 trillion zone datasets (June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ntered scaling problems e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time slow because each processor was reading plugin directory to obtain plugin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It commands were sent from rank 0 to other ranks 1Kb at a time until a message was 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spinning bcast substitute used for sending commands had point-to-point that performed poorly at 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tain metadata consumed too much memory (each processor has ~700Mb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chronization step for SR mode used slow point-to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Improvement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cast plugin information from rank 0 to other ranks to improve plugin loading time 9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cast VisIt commands from rank 0 in a single chunk instead of 1Kb at a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tandard bcast in engine main loop instead of poorly performing non-spin substitute geared towards shared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ed to alternate metadata representation to free up most available memory for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Miller was able to replace SR mode synchronization step with much faster version that reduced time to 2 seconds from 20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Impac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far this project’s impact has been small for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do not yet run on Da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might not notice small improvements at today’s everyday processor counts (&lt;2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higher processor counts (&gt;4k) optimizations added by this work prevent bottlenecks in compute engine, improving sca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ve load problems with xlC compiler so we can use the best optimizations, including using BG/P’s dual FP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3rd party library build process for BG/P by adding support in build_visit scr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profiling plots and improving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memory usage wher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I/O patterns and attempt optim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5:38:55Z</dcterms:created>
  <dc:creator>Wes Bethel</dc:creator>
  <dc:description/>
  <dc:language>en-US</dc:language>
  <cp:lastModifiedBy>DNT DNT</cp:lastModifiedBy>
  <dcterms:modified xsi:type="dcterms:W3CDTF">2009-10-13T18:29:20Z</dcterms:modified>
  <cp:revision>137</cp:revision>
  <dc:subject/>
  <dc:title>PowerPoint Presentation</dc:title>
</cp:coreProperties>
</file>